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EA41-ECA2-49A4-8B9E-3BFAC217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A6A1-B2FB-4AB4-9B5F-4D7C334E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0107-7752-49E1-9FA3-196F6C4D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1534-115D-45D1-BC86-2DBA74FA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A23E-0993-4060-94AB-D45B6DF3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1E6D-3E10-4E4A-95BC-5C3FA7A3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AACE-A7F4-487E-A75C-A8829349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27C0-01A0-4622-AFA5-FECEDF50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57A2-1D7B-43D0-800C-D66646EF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3D89-D130-4B78-B3B6-FB03BEC9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E410-8A16-4C3A-9865-79B3D52F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EAC3-0DE2-4FCF-957A-D9315098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50000">
              <a:srgbClr val="d3a219"/>
            </a:gs>
            <a:gs pos="100000">
              <a:srgbClr val="5c1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250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5B59-3294-472A-8F06-4A0CDE1D08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50000">
              <a:srgbClr val="d3a219"/>
            </a:gs>
            <a:gs pos="100000">
              <a:srgbClr val="5c1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250c"/>
                </a:solidFill>
                <a:latin typeface="Arial"/>
              </a:rPr>
              <a:t>Operációs rendszerek</a:t>
            </a: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ffff"/>
                </a:solidFill>
                <a:uFillTx/>
                <a:latin typeface="Arial"/>
              </a:rPr>
              <a:t>Taskrendszerek determinizmusa, Taskrendszerek holtpont állapo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50000">
              <a:srgbClr val="d3a219"/>
            </a:gs>
            <a:gs pos="100000">
              <a:srgbClr val="5c1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250c"/>
                </a:solidFill>
                <a:latin typeface="Arial"/>
              </a:rPr>
              <a:t>Fogalmak</a:t>
            </a: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sztá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ktumok felépítését az osztályok definíciója határozza meg. Osztályok között a hagyományos értelemben vett öröklődés lehetséges. Ekkor a gyermekosztály az őstől minden attribútumot és metódust örököl. Az alosztályban további komponensek vehetőek fel és a metódusok átírhatóa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50000">
              <a:srgbClr val="d3a219"/>
            </a:gs>
            <a:gs pos="100000">
              <a:srgbClr val="5c1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250c"/>
                </a:solidFill>
                <a:latin typeface="Arial"/>
              </a:rPr>
              <a:t>Fogalmak</a:t>
            </a: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u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zoftverobjektum olyan definíció, mely megkísérli teljes mértékben lefedni egy probléma megoldását. Tartalmaz adatokat és algoritmusokat. Az "objektum" fogalma nem ismeretlen a programozó számára, hiszen egy objektumként tekinthető egy teljes program is; tartalmaz adatokat és algoritmusokat és egy probléma teljes megoldására törekszi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belső adatobjektumok egy programban hozhatjuk létre és csak ezen a programon belül van érvényük. Ilyen objektumok lehetnek literálok, változók és konstanso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külső adatobjektumok a programunktól függetlenül léteznek, de nem lehet velük közvetlenül dolgozni. Másolatot kell készíteni róluk egy belső objektumba és onnan a megfelelő módosítások után, kiírhatju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50000">
              <a:srgbClr val="d3a219"/>
            </a:gs>
            <a:gs pos="100000">
              <a:srgbClr val="5c1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250c"/>
                </a:solidFill>
                <a:latin typeface="Arial"/>
              </a:rPr>
              <a:t>Fogalmak</a:t>
            </a: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ulajdonsá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 egy "képletes" értelmű fogalom, az objektumokkal kapcsolatban általában egy objektum adatmezőinek és metódusainak összességét jelen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ód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Így hívják az objektumokban leírt, definiált eljárásokat és függvényeket (tehát mind a függvényeknek, mind az eljárásoknak közösen metódus a nev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50000">
              <a:srgbClr val="d3a219"/>
            </a:gs>
            <a:gs pos="100000">
              <a:srgbClr val="5c1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250c"/>
                </a:solidFill>
                <a:latin typeface="Arial"/>
              </a:rPr>
              <a:t>Fogalmak</a:t>
            </a: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Öröklődé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objektumok azon tulajdonsága, hogy egy másik objektum adatmezőit és metódusait "veheti át". Ilyenkor a leszármazott objektumtípus adatmezői és metódusai, kiegészül az őstípusév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tatikus objektu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objektum, amely csak statikus metódusokkal rendelkezik, azaz amely nem tartalmaz virtuális objektum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Dinamikus objektu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objektum számára memóriaterületet constructorral foglalunk és destruktorral szabadítjuk fel a foglalt területet. Osztály objektum esetén a hagyományos new és dispose memóriakezelő eljárások nem használható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50000">
              <a:srgbClr val="d3a219"/>
            </a:gs>
            <a:gs pos="100000">
              <a:srgbClr val="5c1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250c"/>
                </a:solidFill>
                <a:latin typeface="Arial"/>
              </a:rPr>
              <a:t>Fogalmak</a:t>
            </a: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bjektumok hierarchiáj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ármaztatott osztálynak csak egyetlen közvetlen őse lehet. Itt az egyedi osztályok helyett az egymásra épülő osztályok hierarchiája biztosítja az objektumorientált megközelítés előnye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olimorfizmu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 adott metódus azonosítója közös lehet egy adott objektumhierarchián belül, ugyanakkor a hierarchia minden egyes objektumában a tevékenységeket végrehajtó metódus implementációja az adott objektumra nézve specifikus lehet (Pl: virtuális metódusok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50000">
              <a:srgbClr val="d3a219"/>
            </a:gs>
            <a:gs pos="100000">
              <a:srgbClr val="5c1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 u="sng">
                <a:solidFill>
                  <a:srgbClr val="2a250c"/>
                </a:solidFill>
                <a:uFillTx/>
                <a:latin typeface="Arial"/>
              </a:rPr>
              <a:t>Taskrendszerek determinizmusa, Taskrendszerek holtpont állapota</a:t>
            </a:r>
            <a:endParaRPr b="0" lang="en-US" sz="40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oltpo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oltpont akkor keletkezik egy multitaskingos operációs rendszerben, amikor egy folyamat olyan számára szolgáltatást nyújtó folyamatra vár, mely éppen futás közben van, de ős is egy rendszer másik futó folyamatára várakozi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ialakulásának feltétele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ölcsönös kizárás (Folyamatok melyek erőforrásokat kizárólagosan használna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oglalva várakozás (Folyamatok, melyek lefoglalva tartanak más folyamatokat várakozás közb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örkörös várakozás (egy folyamsorozat kialakulása, ahol egy folyamat mindig az időben meghívott előtte lévő folyamatra vá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50000">
              <a:srgbClr val="d3a219"/>
            </a:gs>
            <a:gs pos="100000">
              <a:srgbClr val="5c1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 u="sng">
                <a:solidFill>
                  <a:srgbClr val="2a250c"/>
                </a:solidFill>
                <a:uFillTx/>
                <a:latin typeface="Arial"/>
              </a:rPr>
              <a:t>Taskrendszerek determinizmusa, Taskrendszerek holtpont állapota</a:t>
            </a:r>
            <a:endParaRPr b="0" lang="en-US" sz="40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eterminizmus: (Folyamatok terminálása holtpont eseté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oltpontban résztvevő folyamatok futásnak megszakítása (eredmények elveszté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olyamatok egyesével való megszűntetése a holtpont megszűnésé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rőforrások elvétele a holtpontban lévő folyamatoktó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Állapotjelzők visszaállítása, törekvés a folyamatok által elvégzett műveletek eredményeinek megőrzésé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50000">
              <a:srgbClr val="d3a219"/>
            </a:gs>
            <a:gs pos="100000">
              <a:srgbClr val="5c1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250c"/>
                </a:solidFill>
                <a:latin typeface="Arial"/>
              </a:rPr>
              <a:t>Operációs rendszerek</a:t>
            </a: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zközök és folyamatok vezérlé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50000">
              <a:srgbClr val="d3a219"/>
            </a:gs>
            <a:gs pos="100000">
              <a:srgbClr val="5c1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250c"/>
                </a:solidFill>
                <a:latin typeface="Arial"/>
              </a:rPr>
              <a:t>Megszakítás elve, folyamata, prioritások:</a:t>
            </a:r>
            <a:endParaRPr b="0" lang="en-US" sz="40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gszakítá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gszakítás bekövetkezésekor az éppen futó programtól a vezérlés ideiglenesen átadódik egy másik program számára, amely kiszolgálja a bekövetkezett eseményt. A megszakítást kiszolgáló program lefutása után pedig a megszakított program végrehajtása a következő utasításától kezdve folytatódi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50000">
              <a:srgbClr val="d3a219"/>
            </a:gs>
            <a:gs pos="100000">
              <a:srgbClr val="5c1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250c"/>
                </a:solidFill>
                <a:latin typeface="Arial"/>
              </a:rPr>
              <a:t>Megszakítás elve, folyamata, prioritások:</a:t>
            </a:r>
            <a:endParaRPr b="0" lang="en-US" sz="40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lyamat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amilyen egység, vagy alkalmazás megszakítási kérelmet küld az operációs rendszern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nek hatására elindul az operációs rendszer megszakítást kezelő rutin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veszi az erőforrásokat és a támogató folyamatokat az alkalmazástó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cializálja az alkalmazás éppen futó algoritmusa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szaadja a vezérlést az alkalmazásna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50000">
              <a:srgbClr val="d3a219"/>
            </a:gs>
            <a:gs pos="100000">
              <a:srgbClr val="5c1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250c"/>
                </a:solidFill>
                <a:latin typeface="Arial"/>
              </a:rPr>
              <a:t>Megszakítás elve, folyamata, prioritások:</a:t>
            </a:r>
            <a:endParaRPr b="0" lang="en-US" sz="40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DMA eszközök:</a:t>
            </a: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DMA (Direct Memory Access) egy speciális elem a PC-ben, amely a tároló és a perifériák közti gyors adatátvitelt szolgálja. Ilyenkor nem a processzor, hanem a DMA vezérlő tartja a kezében az adat-, cím-, és vezérlővezetékeke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eredeti PC-ben egy darab Intel 8237 típusú elem látta el ezt a feladatot, az AT-ben már két ilyen vezérlő volt, amellyel 4-ről 7-re nőtt a kezelhető csatornák szám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első vezérlőt Master-nek (mester), a másodikat Slave-nek (szolga) nevezzük. A DMA vezérlőben 64 Kbyte nagyságú adatokat lehet mozgatni. Az adatmozgás sebessége körülbelül hatszor akkora, mintha a processzor végezné a művelet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50000">
              <a:srgbClr val="d3a219"/>
            </a:gs>
            <a:gs pos="100000">
              <a:srgbClr val="5c1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250c"/>
                </a:solidFill>
                <a:latin typeface="Arial"/>
              </a:rPr>
              <a:t>Megszakítás elve, folyamata, prioritások:</a:t>
            </a:r>
            <a:endParaRPr b="0" lang="en-US" sz="40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ndszerhívások mechanizmus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z operációs rendszerek a felhasználói programok elől eltakarják a géphez kapcsolt "nyers" hardver részleteket, egy köztes kommunikációs felület biztosítja a kapcsolattartást. Ezen a felületen keresztül a kapcsolattartás, a rendszer szolgáltatásainak igénybevételének eszközei a rendszerhíváso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ípus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yamatokat kezelő rendszerhívás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fájlrendszer rendszerhívása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apvető, fájlokkal kapcsolatos rendszerhívás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fájlrendszer és a memóriakezelő kapcsol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gyéb, fájlokkal kapcsolatos rendszerhívás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ájlok konkurens elér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vételes események kezelésének rendszerhívása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50000">
              <a:srgbClr val="d3a219"/>
            </a:gs>
            <a:gs pos="100000">
              <a:srgbClr val="5c1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4400" spc="-1" strike="noStrike">
                <a:solidFill>
                  <a:srgbClr val="2a250c"/>
                </a:solidFill>
                <a:latin typeface="Arial"/>
              </a:rPr>
              <a:t>bjektum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4400" spc="-1" strike="noStrike">
                <a:solidFill>
                  <a:srgbClr val="2a250c"/>
                </a:solidFill>
                <a:latin typeface="Arial"/>
              </a:rPr>
              <a:t>rientált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2a250c"/>
                </a:solidFill>
                <a:latin typeface="Arial"/>
              </a:rPr>
              <a:t>rogramozás</a:t>
            </a: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08:37:49Z</dcterms:created>
  <dc:creator>Nagymáté Péter</dc:creator>
  <dc:description/>
  <dc:language>en-US</dc:language>
  <cp:lastModifiedBy>Nagymáté Péter</cp:lastModifiedBy>
  <dcterms:modified xsi:type="dcterms:W3CDTF">2004-06-01T08:59:09Z</dcterms:modified>
  <cp:revision>7</cp:revision>
  <dc:subject/>
  <dc:title>Objektum Orientált Programozás</dc:title>
</cp:coreProperties>
</file>